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6DF-84AC-40C3-B58A-C2E4DDE2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EE9-8125-4105-B167-F99FDB93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9A0-D6D0-4665-B8E5-B54E6B65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311-62F1-4942-A3E4-C12F229E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08DC-BFCB-4050-9A79-C65E548E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ACED-4095-4799-95E2-DFAF8797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60D9-E701-4C83-B173-261AB1FF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71A5-4270-429A-9101-647852FD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9846-E619-472F-88B8-D9DE559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522B-2DEB-4601-884C-FDBD8661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CE05-3814-4D7F-8AC1-11E99464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972-FF60-43FA-95E9-AC843886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0D7E-B35C-4827-A51F-143637E8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3852-8B75-4005-ADC3-4F60296C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B572-8168-41B4-AE70-16A59C1A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A5A7-6BF4-4626-A91A-122FCA87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2267-09F8-4B32-BA7E-250C5DC2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D4B-A9CA-4496-A4D0-C129CEFC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914-AA65-499F-ACE3-8848383C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AF5-9FAB-4098-A93D-52987A4E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CD6-C68C-4A49-9281-16C69A4F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531-99D4-4C28-BDE4-216A2648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B6F-F99B-4BE4-BB74-27B07AEA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140-761D-48D5-B246-82E2432A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7447-C428-4186-99BF-B93ADAB7F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EB30-3442-45BD-A114-27B31EDB4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2286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ooper Black"/>
              </a:rPr>
              <a:t>How To Disappear Completely and Never be F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: Sara Nick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Har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1752480" cy="190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6520" y="624852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images.search.yahoo.com/search/imag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To Disappear Completely and Never Be 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Light"/>
              </a:rPr>
              <a:t>Written by Sara Nick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2220840" cy="2971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5029200"/>
            <a:ext cx="3504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images.search.yahoo.com/search/imag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ff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35816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argaret: curious, worried about lost 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oyd: helpful, nice friend of Margaret, shows the c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phie: caring, honest, Margaret’s s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ina Louise: amazing, athletic, Margaret’s fri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rees bullies, mean to Boyd, bad gu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1240" y="5873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Margaret’s house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Lighthouse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Down by northwest pacific ocean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Boyd’s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6933960" cy="2286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Margaret and Sophie’s dad and uncle are lo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n Event #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259056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7d89"/>
                </a:solidFill>
                <a:latin typeface="Arial"/>
              </a:rPr>
              <a:t>Sophie and Margaret see uncle rat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7d89"/>
                </a:solidFill>
                <a:latin typeface="Arial"/>
              </a:rPr>
              <a:t>Uncle wrote comics to tell about what happened between him and dad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7d89"/>
                </a:solidFill>
                <a:latin typeface="Arial"/>
              </a:rPr>
              <a:t>The comics are rea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Main Event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dbdbd"/>
                </a:solidFill>
                <a:latin typeface="Copperplate Gothic Bold"/>
              </a:rPr>
              <a:t>Anonymous person send package to give to her m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dbdbd"/>
                </a:solidFill>
                <a:latin typeface="Copperplate Gothic Bold"/>
              </a:rPr>
              <a:t>Margaret sees dad when he saves her life from drown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Author’s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3b3b3"/>
                </a:solidFill>
                <a:latin typeface="Arial"/>
              </a:rPr>
              <a:t>Never give 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2438280" cy="3124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0640" y="5586480"/>
            <a:ext cx="39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Amazon.com/How-Disappear-Completely-Never-Found/dp/006441027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100"/>
                </a:solidFill>
                <a:latin typeface="Arial"/>
              </a:rPr>
              <a:t>Author’s Bibliograp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5400"/>
                </a:solidFill>
                <a:latin typeface="Arial"/>
              </a:rPr>
              <a:t>only book she has writt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2249640"/>
            <a:ext cx="4038480" cy="3576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6520" y="601992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ra Nickerson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6:34:17Z</dcterms:created>
  <dc:creator>D83  User</dc:creator>
  <dc:description/>
  <dc:language>en-US</dc:language>
  <cp:lastModifiedBy>D83  User</cp:lastModifiedBy>
  <dcterms:modified xsi:type="dcterms:W3CDTF">2010-12-03T16:38:02Z</dcterms:modified>
  <cp:revision>17</cp:revision>
  <dc:subject/>
  <dc:title>How To Disappear Completely and Never be Found</dc:title>
</cp:coreProperties>
</file>